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C0EE-9FC5-492E-84A2-435BBED45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46BA-A431-42CA-891D-CCE515BD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A629-5D31-4D31-8ED3-FAA42569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C312-11A8-4D50-9228-8131E17E9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6497-858A-419B-8986-7E0C7D58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9ED4-0DB8-4F1D-BBF6-3C709FD7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71EF-16FA-4AB5-AF81-90584B97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F0E3-E57C-4F14-86C8-25109C13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1319-7EE0-4B13-8635-E053E2C1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5281-66E9-47DD-88EE-2F20712E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BC83-506B-4674-9C9C-58B62EEB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9A19-4DDB-4C1D-9D5A-2ACFF71B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81CA-C5CB-4E00-92DF-61CF25FC1E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mage468"/>
          <p:cNvPicPr/>
          <p:nvPr/>
        </p:nvPicPr>
        <p:blipFill>
          <a:blip r:embed="rId1"/>
          <a:stretch/>
        </p:blipFill>
        <p:spPr>
          <a:xfrm>
            <a:off x="5486400" y="3352680"/>
            <a:ext cx="3352680" cy="319104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685800" y="304920"/>
            <a:ext cx="5029200" cy="47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 </a:t>
            </a:r>
            <a:endParaRPr b="1" lang="en-US" sz="66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Учимся</a:t>
            </a:r>
            <a:endParaRPr b="1" lang="en-US" sz="66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6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писать</a:t>
            </a:r>
            <a:endParaRPr b="1" lang="en-US" sz="66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цифры</a:t>
            </a:r>
            <a:endParaRPr b="1" lang="en-US" sz="66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685800" y="1295280"/>
            <a:ext cx="472428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rc 8"/>
          <p:cNvSpPr/>
          <p:nvPr/>
        </p:nvSpPr>
        <p:spPr>
          <a:xfrm rot="901200">
            <a:off x="3158640" y="1304640"/>
            <a:ext cx="2324160" cy="14335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10"/>
          <p:cNvSpPr/>
          <p:nvPr/>
        </p:nvSpPr>
        <p:spPr>
          <a:xfrm>
            <a:off x="3048120" y="19810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 flipH="1">
            <a:off x="2742840" y="2971800"/>
            <a:ext cx="2514600" cy="30481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12"/>
          <p:cNvSpPr/>
          <p:nvPr/>
        </p:nvSpPr>
        <p:spPr>
          <a:xfrm>
            <a:off x="2743200" y="5562720"/>
            <a:ext cx="2666880" cy="46980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 rot="7451400">
            <a:off x="2263320" y="70776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"/>
          <p:cNvPicPr/>
          <p:nvPr/>
        </p:nvPicPr>
        <p:blipFill>
          <a:blip r:embed="rId2"/>
          <a:srcRect l="24004" t="27257" r="21600" b="18237"/>
          <a:stretch/>
        </p:blipFill>
        <p:spPr>
          <a:xfrm>
            <a:off x="6477120" y="1219320"/>
            <a:ext cx="2361960" cy="2361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"/>
          <p:cNvPicPr/>
          <p:nvPr/>
        </p:nvPicPr>
        <p:blipFill>
          <a:blip r:embed="rId3"/>
          <a:srcRect l="24004" t="27257" r="21600" b="18237"/>
          <a:stretch/>
        </p:blipFill>
        <p:spPr>
          <a:xfrm>
            <a:off x="5638680" y="358128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51" name="Oval 3"/>
          <p:cNvSpPr/>
          <p:nvPr/>
        </p:nvSpPr>
        <p:spPr>
          <a:xfrm>
            <a:off x="2666880" y="5867280"/>
            <a:ext cx="15264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-0.00116 C 0.01319 -0.03215 0.02882 -0.06152 0.04583 -0.08025 C 0.06337 -0.09852 0.08212 -0.108 0.10191 -0.11355 C 0.12188 -0.11702 0.14722 -0.11702 0.16597 -0.11355 C 0.18507 -0.108 0.20208 -0.08881 0.21424 -0.08025 C 0.22622 -0.07077 0.23125 -0.07285 0.23819 -0.05782 C 0.24462 -0.04325 0.2526 -0.01758 0.25399 0.00856 C 0.25625 0.03469 0.2526 0.07169 0.24583 0.09783 C 0.23906 0.12327 0.2526 0.09598 0.21424 0.16466 C 0.175 0.23219 0.05399 0.43987 0.01406 0.50925 C -0.02622 0.57771 -0.02639 0.57007 -0.02622 0.57539 C -0.02483 0.58349 0.00434 0.55111 0.0217 0.54278 C 0.03889 0.53284 0.0592 0.52012 0.07813 0.52012 C 0.09688 0.52012 0.11788 0.53469 0.13403 0.54278 C 0.14965 0.54972 0.15799 0.56799 0.17378 0.56452 C 0.18976 0.56013 0.22049 0.52729 0.22969 0.52012 E">
                                      <p:cBhvr>
                                        <p:cTn id="6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609480" y="1066680"/>
            <a:ext cx="472464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rc 12"/>
          <p:cNvSpPr/>
          <p:nvPr/>
        </p:nvSpPr>
        <p:spPr>
          <a:xfrm flipH="1" rot="876600">
            <a:off x="3275640" y="1066320"/>
            <a:ext cx="2055600" cy="20923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rc 13"/>
          <p:cNvSpPr/>
          <p:nvPr/>
        </p:nvSpPr>
        <p:spPr>
          <a:xfrm>
            <a:off x="2895480" y="3200400"/>
            <a:ext cx="2438640" cy="25909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3"/>
          <p:cNvSpPr/>
          <p:nvPr/>
        </p:nvSpPr>
        <p:spPr>
          <a:xfrm>
            <a:off x="3276720" y="144792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 rot="7451400">
            <a:off x="2491920" y="25056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1" descr=""/>
          <p:cNvPicPr/>
          <p:nvPr/>
        </p:nvPicPr>
        <p:blipFill>
          <a:blip r:embed="rId2"/>
          <a:stretch/>
        </p:blipFill>
        <p:spPr>
          <a:xfrm>
            <a:off x="5867280" y="228600"/>
            <a:ext cx="2705400" cy="1952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2" descr=""/>
          <p:cNvPicPr/>
          <p:nvPr/>
        </p:nvPicPr>
        <p:blipFill>
          <a:blip r:embed="rId3"/>
          <a:stretch/>
        </p:blipFill>
        <p:spPr>
          <a:xfrm>
            <a:off x="5791320" y="2438280"/>
            <a:ext cx="2705040" cy="1952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3" descr=""/>
          <p:cNvPicPr/>
          <p:nvPr/>
        </p:nvPicPr>
        <p:blipFill>
          <a:blip r:embed="rId4"/>
          <a:stretch/>
        </p:blipFill>
        <p:spPr>
          <a:xfrm>
            <a:off x="5867280" y="4572000"/>
            <a:ext cx="2705400" cy="1952640"/>
          </a:xfrm>
          <a:prstGeom prst="rect">
            <a:avLst/>
          </a:prstGeom>
          <a:ln w="0">
            <a:noFill/>
          </a:ln>
        </p:spPr>
      </p:pic>
      <p:sp>
        <p:nvSpPr>
          <p:cNvPr id="60" name="Oval 24"/>
          <p:cNvSpPr/>
          <p:nvPr/>
        </p:nvSpPr>
        <p:spPr>
          <a:xfrm>
            <a:off x="4038480" y="3124080"/>
            <a:ext cx="15264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-0.01133 C 0.01649 -0.02613 0.02882 -0.04093 0.04375 -0.05087 C 0.05868 -0.06082 0.07622 -0.0703 0.09444 -0.07146 C 0.11267 -0.07261 0.13681 -0.06914 0.15365 -0.05827 C 0.17049 -0.04741 0.18628 -0.02451 0.19583 -0.00578 C 0.20538 0.01296 0.20868 0.03331 0.21128 0.05435 C 0.21389 0.0754 0.2151 0.09968 0.21128 0.12003 C 0.20747 0.14038 0.19809 0.16097 0.18872 0.17623 C 0.17934 0.19149 0.16979 0.20236 0.15503 0.21185 C 0.14028 0.22133 0.1125 0.2278 0.1 0.23243 C 0.0875 0.23705 0.08056 0.23844 0.08038 0.24006 C 0.08021 0.24168 0.08924 0.23867 0.09861 0.24191 C 0.10799 0.24515 0.12188 0.24654 0.13663 0.25879 C 0.15139 0.27105 0.17517 0.29556 0.18733 0.31499 C 0.19948 0.33442 0.20521 0.3513 0.2099 0.37512 C 0.21458 0.39894 0.21771 0.43201 0.21563 0.45768 C 0.21354 0.48335 0.20538 0.50879 0.19722 0.52891 C 0.18906 0.54903 0.18351 0.56245 0.16632 0.57771 C 0.14913 0.59297 0.1191 0.61633 0.09444 0.62096 C 0.06979 0.62558 0.03767 0.61541 0.0184 0.60593 C -0.000869999999999999 0.59644 -0.0092 0.58118 -0.02101 0.56453 C -0.03281 0.54788 -0.04687 0.51619 -0.05208 0.50648 E">
                                      <p:cBhvr>
                                        <p:cTn id="12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68580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rc 6"/>
          <p:cNvSpPr/>
          <p:nvPr/>
        </p:nvSpPr>
        <p:spPr>
          <a:xfrm flipV="1" rot="16801200">
            <a:off x="1865520" y="3004920"/>
            <a:ext cx="3051000" cy="252288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rc 7"/>
          <p:cNvSpPr/>
          <p:nvPr/>
        </p:nvSpPr>
        <p:spPr>
          <a:xfrm flipH="1" rot="1275000">
            <a:off x="2677320" y="1068480"/>
            <a:ext cx="2403720" cy="317484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5"/>
          <p:cNvSpPr/>
          <p:nvPr/>
        </p:nvSpPr>
        <p:spPr>
          <a:xfrm>
            <a:off x="5257800" y="198108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 rot="7451400">
            <a:off x="4473000" y="70776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"/>
          <p:cNvPicPr/>
          <p:nvPr/>
        </p:nvPicPr>
        <p:blipFill>
          <a:blip r:embed="rId2"/>
          <a:srcRect l="3331" t="11252" r="13333" b="33749"/>
          <a:stretch/>
        </p:blipFill>
        <p:spPr>
          <a:xfrm>
            <a:off x="5638680" y="533520"/>
            <a:ext cx="1625760" cy="1743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"/>
          <p:cNvPicPr/>
          <p:nvPr/>
        </p:nvPicPr>
        <p:blipFill>
          <a:blip r:embed="rId3"/>
          <a:srcRect l="3331" t="11252" r="13333" b="33749"/>
          <a:stretch/>
        </p:blipFill>
        <p:spPr>
          <a:xfrm>
            <a:off x="7315200" y="533520"/>
            <a:ext cx="1625760" cy="1743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"/>
          <p:cNvPicPr/>
          <p:nvPr/>
        </p:nvPicPr>
        <p:blipFill>
          <a:blip r:embed="rId4"/>
          <a:srcRect l="3331" t="11252" r="13333" b="33749"/>
          <a:stretch/>
        </p:blipFill>
        <p:spPr>
          <a:xfrm>
            <a:off x="5562720" y="2514600"/>
            <a:ext cx="1625400" cy="1743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"/>
          <p:cNvPicPr/>
          <p:nvPr/>
        </p:nvPicPr>
        <p:blipFill>
          <a:blip r:embed="rId5"/>
          <a:srcRect l="3331" t="11252" r="13333" b="33749"/>
          <a:stretch/>
        </p:blipFill>
        <p:spPr>
          <a:xfrm>
            <a:off x="7238880" y="2590920"/>
            <a:ext cx="1625760" cy="1743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"/>
          <p:cNvPicPr/>
          <p:nvPr/>
        </p:nvPicPr>
        <p:blipFill>
          <a:blip r:embed="rId6"/>
          <a:srcRect l="3331" t="11252" r="13333" b="33749"/>
          <a:stretch/>
        </p:blipFill>
        <p:spPr>
          <a:xfrm>
            <a:off x="7315200" y="4648320"/>
            <a:ext cx="1625760" cy="1743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9" descr=""/>
          <p:cNvPicPr/>
          <p:nvPr/>
        </p:nvPicPr>
        <p:blipFill>
          <a:blip r:embed="rId7"/>
          <a:srcRect l="3331" t="11252" r="13333" b="33749"/>
          <a:stretch/>
        </p:blipFill>
        <p:spPr>
          <a:xfrm>
            <a:off x="5638680" y="4648320"/>
            <a:ext cx="16239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40518E-007 C -0.00799 -0.0185 -0.0158 -0.03677 -0.02257 -0.05065 C -0.02935 -0.06452 -0.0316 -0.07285 -0.04098 -0.08256 C -0.05035 -0.09228 -0.06806 -0.10384 -0.079 -0.1087 C -0.08994 -0.11355 -0.09688 -0.11263 -0.10712 -0.1124 C -0.11737 -0.11216 -0.12952 -0.11055 -0.14098 -0.10685 C -0.15244 -0.10315 -0.16372 -0.09875 -0.17622 -0.08996 C -0.18872 -0.08118 -0.20105 -0.07285 -0.21563 -0.05435 C -0.23021 -0.03585 -0.24879 -0.00694 -0.26355 0.02081 C -0.2783 0.04857 -0.29289 0.07956 -0.30435 0.11263 C -0.3158 0.1457 -0.32466 0.18432 -0.33247 0.2197 C -0.34028 0.25509 -0.34862 0.29371 -0.35087 0.3247 C -0.35313 0.35569 -0.35122 0.37812 -0.34653 0.40541 C -0.34185 0.4327 -0.33421 0.46647 -0.32257 0.48797 C -0.31094 0.50948 -0.2948 0.52243 -0.27622 0.53469 C -0.25764 0.54695 -0.23143 0.56105 -0.21129 0.56105 C -0.19115 0.56105 -0.16928 0.54463 -0.15504 0.53469 C -0.1408 0.52475 -0.13403 0.51364 -0.12535 0.50092 C -0.11667 0.48821 -0.11112 0.47687 -0.10296 0.45791 C -0.0948 0.43895 -0.08143 0.41235 -0.07622 0.38668 C -0.07101 0.36101 -0.06997 0.33141 -0.07188 0.30412 C -0.07379 0.27683 -0.08021 0.24746 -0.08733 0.2234 C -0.09445 0.19935 -0.10157 0.17738 -0.11424 0.15957 C -0.12691 0.14177 -0.14601 0.12465 -0.16355 0.11633 C -0.18108 0.108 -0.20226 0.10615 -0.2198 0.10893 C -0.23733 0.1117 -0.25573 0.12257 -0.2691 0.13321 C -0.28247 0.14385 -0.28855 0.15402 -0.3 0.17276 C -0.31146 0.19149 -0.33178 0.23358 -0.3382 0.24584 E">
                                      <p:cBhvr>
                                        <p:cTn id="18" dur="5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371600" y="533520"/>
            <a:ext cx="6781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коне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Рисунок1"/>
          <p:cNvPicPr/>
          <p:nvPr/>
        </p:nvPicPr>
        <p:blipFill>
          <a:blip r:embed="rId1"/>
          <a:stretch/>
        </p:blipFill>
        <p:spPr>
          <a:xfrm>
            <a:off x="3657600" y="1676520"/>
            <a:ext cx="1776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евцова С.А.</dc:creator>
  <dc:description/>
  <dc:language>en-US</dc:language>
  <cp:lastModifiedBy>Елена</cp:lastModifiedBy>
  <dcterms:modified xsi:type="dcterms:W3CDTF">2012-10-17T18:41:0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